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D40B-EC09-419E-9C4A-3EB535398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BD0C-48E6-46C6-A0B3-B52BB211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DC78-005B-4F80-9C8B-3F9C0E93E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A6F6-C74A-4067-8990-E62E9CFA1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4D34-586F-49A4-B7E7-08AB7815C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C430-86D3-4F25-9F44-7D367960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2BA15-586F-44E3-8605-A3EEB8E4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8D91-F29A-468F-9354-480A72FA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73030-4579-4E41-87C2-31AD1E16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AFDC-514A-49F8-A56B-96CAEA00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033E-9B96-4A72-B791-9A83089A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6A05-DB64-45FE-B3A6-FACF546D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6097-02E9-4678-9A36-5FA3CE2A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C1F7-90A2-483B-8072-868D7E61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CF8B-94D3-4557-9620-F9E707D7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10EA-5DCC-4D75-9DB4-35EE9E16B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84AE-4548-46D3-B6A3-295BBAFE9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8667C9-E50C-42F2-AF3B-904A8F7E3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78A10C-44CD-4D75-8221-54D82641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11305B-7D96-4467-B952-4AAD3994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1BBF9F-FE52-483E-B6E4-05665AE5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2167D7-C2EF-4B6F-BA9A-867E2B44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C6A9-CAAA-4946-AD21-744CBCD4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BECFAB-4BB7-4F02-B12E-4DEB8BDE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22E813-0A4C-44C1-A5E9-D51DA1FB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64775C-7349-449A-BB65-314CC9BA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EA176C-59DB-4086-AE14-874BC782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B1EC86-2581-4D33-B73B-F1156AE1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F660C1-806C-4703-9C76-00EAF923A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A741FA-4B11-4C31-8A69-953A1C822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5F8609-CF13-411E-90A6-A9FA1E0AF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879F77-BF14-46CF-A7AE-967B4FB9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D13EAB-133E-470D-BFCD-1FEB846C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CFD0-3D54-4A38-AB0E-BEF008D3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2EDC98-F414-4A0A-8E6E-C3111DE7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B78DE5-08F6-49BB-BAE9-1085DFF8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345928-A350-4CF9-B791-5E76056C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2B7C6D-E33C-4D43-B00F-60A4372F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0C8686-4F2E-4518-8D45-BA856A09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B37028-9804-40A5-B549-25D4462A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4B2005-58F1-4B58-965B-15FF1658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B774C9-4BAB-4B44-8C72-9F22CA727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C19845-5964-4EAC-A0B1-8B3127477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8AB49D-6D6A-474C-BB15-C1360175F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8371-E0D4-4970-888D-9C6C2131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9D9718-690E-4521-800A-09B3C4D2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4C2CB0-A5A6-403B-B855-C4F27AA3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BA2237-0AB2-4088-8FC6-B600756D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226AA9-D05C-4A40-AA71-39A767AC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C1CBF6-D8A4-40B3-BC3A-593FA8BF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A28788-F527-44DD-A69A-F122E945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AAACFD-CB21-45E8-B054-F535D8D8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6C4A93-2212-4B48-9F8A-C50601B1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FEC83B-A72E-4C17-B76B-1C7CDE0E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A1E528-F667-4633-A47A-35F3FBEC7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8A66-2578-4C70-B5C9-A968CBC0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4119E6-5E20-4D06-8103-5E1854464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CA33C-C457-4D62-9C03-A2621CA66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9B4B3-91F0-48C8-8390-DFBBD76A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16D9B-C7F3-4B54-9771-61C8ADD9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0FEF0-EFAF-4A4D-BC1C-9CF95082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0D819-2682-417C-948A-55685171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75AA9-95BC-464F-899D-8225DC25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4AB18-D456-4843-9854-4AE6E312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47A20-B59F-4DCF-9F92-9FA053C3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84812-F4DA-414F-A20D-8FBA1997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0E12-7D83-4186-B1A5-3F94BFDB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E777B-B860-4188-AA01-A1849D1B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064F4-A422-4CFC-83BF-71FCF959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F82C3-C684-4A1A-81D3-DF2B36D4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E5B6D1-8A87-44F2-A731-14227C4B6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73C71C-07C4-4BFC-A0EA-D0A96FD5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C58118-3B87-4D02-9286-8F0B93FD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34A7C6-5712-484A-ABE5-C72E881E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9D13A9-15F4-4A8E-913E-29CDEF52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5DE329-CB9E-4FC3-B714-3853A706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8B3C82-73EE-49FD-833F-26A8D760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CE07-BF0F-454B-890A-816E4973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766A9E-B2B8-40BF-ACD3-5F842351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0F96A9-2619-47BD-B127-4810DD0C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02A084-FA7A-4B29-8547-E536139C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369B9C-0509-4B54-AC22-3AC33143E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29865B-F993-4D17-BF84-DB234D797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B76B8-367C-464C-8D49-8DBC5FF29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55342-34AE-435D-9EE8-C754F2B9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850A0-5E14-40CB-A450-B8DD9519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746F8-7EFC-4118-B056-36E94E44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39F41-AB44-404F-A45D-89F8841E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154C-731A-41CE-87AE-6C7290B2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3760F-2D76-4D73-9141-3F5F5055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F80AE-9F82-4EF3-BB64-38E837C9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1B0D9-307E-4970-B354-D50C0CED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0287B-CA1E-47F3-8873-72DE0468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8A5E3-3B4E-40D4-B4DB-7B8470E5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16939-3ACB-4171-9DCA-820743E27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F667C-A393-43C3-BB07-A66B9EA13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13D9-D6E7-4548-9DFE-18D4805F9D93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52B9-BF79-4060-AB9F-3BDC31E3EE82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F68E-7BAC-43FE-9DA4-DEF28F9476D5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9631-84D2-4CBB-A43A-F31BCDCA82E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A67B-B52E-4320-9E9E-66874A019C12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E1EA-6FFC-4062-9D61-170BD16B84DB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9F9A-B91A-4887-B45A-381D8BEAB02B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3157-2B1D-4A66-9EBE-5492784A3012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nform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12720" y="1600200"/>
            <a:ext cx="81532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arlos read 65 pages of a book that was 180 pages long.  He read 8 to 10 pages a day.  His brother, Marcus, read a book that had 215 pages.  Marcus always read 10 pages a day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nda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599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w many more pages does Carlos need to read to finish the book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uesda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599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w much longer was the book that Marcus read than the book that Carlos read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ednesday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09120" y="1599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would be a reasonable number of days for Carlos to read the 65 pages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ursda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f Carlos read all of both books, how many pages would he read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Frida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599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f Carlos read 24 more pages of his book, how many pages would he still have to read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6:56:02Z</dcterms:created>
  <dc:creator>127partidak</dc:creator>
  <dc:description/>
  <dc:language>en-US</dc:language>
  <cp:lastModifiedBy>127partidak</cp:lastModifiedBy>
  <dcterms:modified xsi:type="dcterms:W3CDTF">2011-11-03T20:24:11Z</dcterms:modified>
  <cp:revision>1</cp:revision>
  <dc:subject/>
  <dc:title>Information</dc:title>
</cp:coreProperties>
</file>